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D788-8856-4406-993F-6CCEB53A85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7345-A95E-4446-8A01-05B2CC255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Закона РТ «О техническом нормировании» стало началом нового подхода к системе технического регулирования. Закон «О техническом нормировании» регулируя отношения, возникающие при разработке и утверждении обязательных для соблюдения технических требований к продукции, процессам ее разработки, производства, эксплуатации, хранения, перевозки, реализации, утилизации их отходов и выполнение работ и оказании услуг в части безопасности, устанавливает права и обязанности участников этих отношен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904E-2B71-44E8-A4AE-5B4566A81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1FB6-2861-41F9-BDCC-F6CF094B7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13B-D787-487D-9B4A-38D3FDC1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EEA-F3FD-45E5-AAF8-16264D2D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840-3C89-4B19-B6B4-A914EA27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F74-4336-4949-8B10-97FC94CE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16E4-BE4E-4C92-A7C8-3E04A3DE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567F-3E86-4E89-B836-F5EE6351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2E6A-F3A9-426A-B5AE-8D248BA5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F093-1CD3-414D-AD65-22765961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95E5-21CB-4563-96C0-1D8A6E4F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D11D-689A-4F4E-B49D-2CBC618B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4E53-CE6E-48E6-96F0-1741D331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47B-8C16-4AD7-9A8D-C24E80C8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2129-9951-4964-951A-2C2B0497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EB45-8FAF-48EE-8DBF-DBEE4BD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0DE9-2A4F-4AF9-A8BB-A4901FFB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4753-AAB3-47B7-8B3C-FE198B81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85C2-1845-450E-8502-5CC007AF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3134-7333-4277-9760-28DB8CDD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97DF-23AE-49D3-BD75-A2B7564B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02F0-4A73-4523-9BD8-ABB94D95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73AFD-A6CB-4BA9-B252-8BECEA8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D774-574A-4520-A9C7-D9F4191D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49F-1A48-4D35-BD81-6BDC80E3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B84B-1657-4EB1-BC23-2B42E50B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B2BD-D75A-4B8C-ABC5-D2B15807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1BAF-E5C6-45E7-85E8-66263214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C2CA-B60F-4111-8D62-E4DB869D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56FC-D08C-4EE8-8885-DB8EA4B0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5A7F-7F5B-4EFE-B066-C0EBBEA2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243F-4567-412B-BE29-C1A6C86B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B9D19-141A-44B7-A80D-4494B8B8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1BD6E-8D7D-4007-B83B-BBE4E813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ADAB-72C2-4AAE-92D2-F1B265F9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121-92D2-42C2-82A7-473EA2A2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9194-90FC-4614-8783-19CD2883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2E280-DD0B-44EC-B8CC-E7ABA60B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6B9B8-1129-4A2D-93AA-F70AEEDD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477D-3C6D-4D17-B72C-31FC0D76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AB0D-4C72-439E-9D3B-2543DB3F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2A7C1-F9B5-47E2-B057-DA26EB9E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916D-B9FE-4802-B52A-51F9C5BF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8CEC-0BC8-4CF8-A8A6-FBE80E04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2854-9720-489C-878B-48714FC2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4ED-E8A6-4331-8476-E87D1F65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48C-58C4-4E0F-9157-5994B4DC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42D-7670-44D0-8340-5F9B0C6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C4A-DBF3-49EF-89AB-667C1BB7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D37-B07D-48A8-8F92-A6545E5C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505F-143E-45E0-AD42-B789FDC5281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51BF-FAE1-4C44-AA86-09D7F87CEC9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2750-8637-46E0-8BC2-78983F182C7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3458-6839-42AD-A2F1-BED18C1CEF4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Герб РТ"/>
          <p:cNvPicPr/>
          <p:nvPr/>
        </p:nvPicPr>
        <p:blipFill>
          <a:blip r:embed="rId1"/>
          <a:stretch/>
        </p:blipFill>
        <p:spPr>
          <a:xfrm>
            <a:off x="971640" y="1916280"/>
            <a:ext cx="2808360" cy="280800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542880" y="255600"/>
            <a:ext cx="805824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05"/>
          <p:cNvPicPr/>
          <p:nvPr/>
        </p:nvPicPr>
        <p:blipFill>
          <a:blip r:embed="rId3"/>
          <a:stretch/>
        </p:blipFill>
        <p:spPr>
          <a:xfrm>
            <a:off x="3892680" y="1916280"/>
            <a:ext cx="481464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298440" y="171360"/>
            <a:ext cx="8516880" cy="88272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24"/>
          <p:cNvGrpSpPr/>
          <p:nvPr/>
        </p:nvGrpSpPr>
        <p:grpSpPr>
          <a:xfrm>
            <a:off x="285840" y="1426680"/>
            <a:ext cx="8858160" cy="4938120"/>
            <a:chOff x="285840" y="1426680"/>
            <a:chExt cx="8858160" cy="4938120"/>
          </a:xfrm>
        </p:grpSpPr>
        <p:graphicFrame>
          <p:nvGraphicFramePr>
            <p:cNvPr id="267" name="Object 25"/>
            <p:cNvGraphicFramePr/>
            <p:nvPr/>
          </p:nvGraphicFramePr>
          <p:xfrm>
            <a:off x="1224000" y="2241720"/>
            <a:ext cx="5724360" cy="28036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268" name="Object 2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24000" y="2241720"/>
                      <a:ext cx="5724360" cy="28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" name="Line 26"/>
            <p:cNvSpPr/>
            <p:nvPr/>
          </p:nvSpPr>
          <p:spPr>
            <a:xfrm flipH="1" flipV="1">
              <a:off x="1763280" y="2241360"/>
              <a:ext cx="1081080" cy="84060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7"/>
            <p:cNvSpPr/>
            <p:nvPr/>
          </p:nvSpPr>
          <p:spPr>
            <a:xfrm>
              <a:off x="1030320" y="1709280"/>
              <a:ext cx="21016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Машиностро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27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8"/>
            <p:cNvSpPr/>
            <p:nvPr/>
          </p:nvSpPr>
          <p:spPr>
            <a:xfrm flipH="1" flipV="1">
              <a:off x="5005440" y="1890720"/>
              <a:ext cx="287280" cy="110628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9"/>
            <p:cNvSpPr/>
            <p:nvPr/>
          </p:nvSpPr>
          <p:spPr>
            <a:xfrm>
              <a:off x="3467160" y="1426680"/>
              <a:ext cx="17542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Металлургия</a:t>
              </a:r>
              <a:br>
                <a:rPr sz="1800"/>
              </a:br>
              <a:r>
                <a:rPr b="1" lang="ru-RU" sz="1800" spc="-1" strike="noStrike">
                  <a:solidFill>
                    <a:srgbClr val="ff66ff"/>
                  </a:solidFill>
                  <a:latin typeface="Times New Roman"/>
                </a:rPr>
                <a:t>         </a:t>
              </a: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8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 flipV="1">
              <a:off x="6516720" y="2451600"/>
              <a:ext cx="576360" cy="63072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1"/>
            <p:cNvSpPr/>
            <p:nvPr/>
          </p:nvSpPr>
          <p:spPr>
            <a:xfrm>
              <a:off x="5191200" y="1506600"/>
              <a:ext cx="21603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Сельское хозяйство и продовольствие</a:t>
              </a:r>
              <a:br>
                <a:rPr sz="1800"/>
              </a:br>
              <a:r>
                <a:rPr b="1" lang="ru-RU" sz="1800" spc="-1" strike="noStrike">
                  <a:solidFill>
                    <a:srgbClr val="ff66ff"/>
                  </a:solidFill>
                  <a:latin typeface="Times New Roman"/>
                </a:rPr>
                <a:t>         </a:t>
              </a: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1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2"/>
            <p:cNvSpPr/>
            <p:nvPr/>
          </p:nvSpPr>
          <p:spPr>
            <a:xfrm flipV="1">
              <a:off x="6805440" y="3221280"/>
              <a:ext cx="719280" cy="14076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7380360" y="2351160"/>
              <a:ext cx="1763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Строительные материалы </a:t>
              </a:r>
              <a:br>
                <a:rPr sz="1800"/>
              </a:b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и изделия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6732720" y="4708440"/>
              <a:ext cx="219528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Химическая промышл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14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5"/>
            <p:cNvSpPr/>
            <p:nvPr/>
          </p:nvSpPr>
          <p:spPr>
            <a:xfrm>
              <a:off x="6300720" y="3853800"/>
              <a:ext cx="647640" cy="90864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6"/>
            <p:cNvSpPr/>
            <p:nvPr/>
          </p:nvSpPr>
          <p:spPr>
            <a:xfrm>
              <a:off x="4500720" y="4064040"/>
              <a:ext cx="502920" cy="98136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7"/>
            <p:cNvSpPr/>
            <p:nvPr/>
          </p:nvSpPr>
          <p:spPr>
            <a:xfrm>
              <a:off x="4572000" y="4918680"/>
              <a:ext cx="21956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Электротехника, электроника, 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15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8"/>
            <p:cNvSpPr/>
            <p:nvPr/>
          </p:nvSpPr>
          <p:spPr>
            <a:xfrm flipH="1">
              <a:off x="3276720" y="4064040"/>
              <a:ext cx="71280" cy="126108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9"/>
            <p:cNvSpPr/>
            <p:nvPr/>
          </p:nvSpPr>
          <p:spPr>
            <a:xfrm>
              <a:off x="2411280" y="5393880"/>
              <a:ext cx="29689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Лесная и деревообрабатывающая промышл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0"/>
            <p:cNvSpPr/>
            <p:nvPr/>
          </p:nvSpPr>
          <p:spPr>
            <a:xfrm>
              <a:off x="285840" y="2463840"/>
              <a:ext cx="1152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12745"/>
                  </a:solidFill>
                  <a:latin typeface="Times New Roman"/>
                </a:rPr>
                <a:t>Проч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1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1"/>
            <p:cNvSpPr/>
            <p:nvPr/>
          </p:nvSpPr>
          <p:spPr>
            <a:xfrm flipH="1" flipV="1">
              <a:off x="684360" y="3011040"/>
              <a:ext cx="1079280" cy="63180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2"/>
            <p:cNvSpPr/>
            <p:nvPr/>
          </p:nvSpPr>
          <p:spPr>
            <a:xfrm>
              <a:off x="468360" y="4876200"/>
              <a:ext cx="24480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Продукция легкой промышл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6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43"/>
            <p:cNvSpPr/>
            <p:nvPr/>
          </p:nvSpPr>
          <p:spPr>
            <a:xfrm flipH="1">
              <a:off x="2050920" y="3994560"/>
              <a:ext cx="720720" cy="91044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10920" y="1196640"/>
            <a:ext cx="777708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Охраны жизни, здоровья и наследственности человека, имущества и охраны окружающей среды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Охраны жизни и стабильного развития животных и растений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Предотвращения обманной практики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Обеспечения единства измерений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Обеспечения национальной безопасности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Рационального использования ресурс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Устранение технических барьеров в торговле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681120" y="298440"/>
            <a:ext cx="77785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10920" y="765000"/>
            <a:ext cx="79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-    обязательности применения технических регламент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добровольности применения гармонизированных документ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признания правомерности использования гармонизированных документов при проведении подтверждения соответствия обязательным требованиям технических регламент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доступности технических регламентов и гармонизированных документов, информации о порядке их разработки, утверждения и опубликования для пользователей и иных заинтересованных лиц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приоритетного использования международных и национальных стандартов, гармонизированных с международными стандартами при разработке технических регламентов и гармонизированных документ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использования современных достижений науки и техники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пропорциональности и не дискриминации в международной торговле.  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90" name="Заголовок 2" descr=""/>
          <p:cNvPicPr/>
          <p:nvPr/>
        </p:nvPicPr>
        <p:blipFill>
          <a:blip r:embed="rId1"/>
          <a:stretch/>
        </p:blipFill>
        <p:spPr>
          <a:xfrm>
            <a:off x="969840" y="212760"/>
            <a:ext cx="720432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Схема 1" descr=""/>
          <p:cNvPicPr/>
          <p:nvPr/>
        </p:nvPicPr>
        <p:blipFill>
          <a:blip r:embed="rId1"/>
          <a:stretch/>
        </p:blipFill>
        <p:spPr>
          <a:xfrm>
            <a:off x="1085760" y="1390680"/>
            <a:ext cx="7101000" cy="45720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616760" y="476280"/>
            <a:ext cx="59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А ТЕХНИЧЕСК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 «МАРКИРОВКА ПИЩЕВЫХ ПРОДУКТОВ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СОКОВОЙ ПРОДУКЦИИ ИЗ ФРУКТОВ И (ИЛИ) ОВОЩЕЙ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УПАКОВКИ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ПРОДУКЦИИ, ПРЕДНАЗНАЧЕННОЙ ДЛЯ ДЕТЕЙ И ПОДРОСТКОВ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ТАБАЧНОЙ ПРОДУКЦИИ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КОРМОВ И КОРМОВЫХ ДОБАВОК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ИГРУШЕК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МЯСА И МЯСНОЙ ПРОДУКЦИИ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СТРОИТЕЛЬНЫХ МАТЕРИАЛОВ И ИЗДЕЛИЙ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94" name="Заголовок 2" descr=""/>
          <p:cNvPicPr/>
          <p:nvPr/>
        </p:nvPicPr>
        <p:blipFill>
          <a:blip r:embed="rId1"/>
          <a:stretch/>
        </p:blipFill>
        <p:spPr>
          <a:xfrm>
            <a:off x="817560" y="291960"/>
            <a:ext cx="74977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9640" y="549360"/>
            <a:ext cx="806472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МОЛОКА И МОЛОЧНОЙ ПРОДУКЦИИ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ПИЩЕВОЙ ПРОДУКЦИИ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НИЗКОВОЛЬТНОГО ОБОРУДОВАНИЯ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АППАРАТОВ, РАБОТАЮЩИХ НА ГАЗООБРАЗНОМ ТОПЛИВЕ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ТРЕБОВАНИЯ К БЕЗОПАСНОСТИ АВТОМОБИЛЬНОГО БЕНЗИНА, ДИЗЕЛЬНОГО ТОПЛИВА, МАЗУТА И ТОПЛИВА ДЛЯ РЕАКТИВНЫХ ДВИГАТЕЛЕЙ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МЕБЕЛЬНОЙ ПРОДУКЦИИ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Технический регламент применяется одинаковым образом и в равной мере, независимо от страны и (или) место происхождения продукции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Требования утвержденного технического регламента являются обязательными для соблюдения всеми субъектами технического нормирования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При изготовлении продукции на экспорт, если условиями договора определены иные требования, чем те, которые установлены техническими регламентами, применяются условия договора, за исключением условий, противоречащих техническим регламентам в части требований к процессам производства, хранения и перевозки продукции, осуществляемым на територии Республики Таджикистан. 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97" name="Заголовок 2" descr=""/>
          <p:cNvPicPr/>
          <p:nvPr/>
        </p:nvPicPr>
        <p:blipFill>
          <a:blip r:embed="rId1"/>
          <a:stretch/>
        </p:blipFill>
        <p:spPr>
          <a:xfrm>
            <a:off x="817560" y="426960"/>
            <a:ext cx="749772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2" descr="qasri-millat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33130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3"/>
          <p:cNvSpPr/>
          <p:nvPr/>
        </p:nvSpPr>
        <p:spPr>
          <a:xfrm>
            <a:off x="395280" y="422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1489f"/>
                </a:solidFill>
                <a:latin typeface="Tahoma"/>
              </a:rPr>
              <a:t>Спасибо за в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2971080" y="4869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1489f"/>
                </a:solidFill>
                <a:latin typeface="Arial"/>
              </a:rPr>
              <a:t>ДАВЛАТЗОДА РАХМОН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3789720" y="530064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hmir@li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127160" y="476280"/>
            <a:ext cx="6889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042560" y="1341000"/>
            <a:ext cx="7201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306a"/>
                </a:solidFill>
                <a:latin typeface="Arial"/>
              </a:rPr>
              <a:t>Таджикистан (тадж. Тоҷикистон), официально Республика Таджикистан — государство в Центральной Азии, бывшая Таджикская Советская Социалистическая Республика в составе СССР.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306a"/>
                </a:solidFill>
                <a:latin typeface="Arial"/>
              </a:rPr>
              <a:t>Таджикистан расположен в предгорьях Памира и не имеет выхода к морю. Это наименьшее по площади центральноазиатское государство.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258920" y="4221000"/>
            <a:ext cx="2952720" cy="2125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5076720" y="4218120"/>
            <a:ext cx="29322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960480" y="695160"/>
            <a:ext cx="7272360" cy="48247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"/>
          <p:cNvSpPr/>
          <p:nvPr/>
        </p:nvSpPr>
        <p:spPr>
          <a:xfrm>
            <a:off x="934920" y="5548320"/>
            <a:ext cx="727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306a"/>
                </a:solidFill>
                <a:latin typeface="Arial"/>
              </a:rPr>
              <a:t>Граничит с Узбекистаном и Киргизией на севере и западе, с Китаем на востоке, с Афганистаном — на ю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306a"/>
                </a:solidFill>
                <a:latin typeface="Arial"/>
              </a:rPr>
              <a:t>Столица — город</a:t>
            </a:r>
            <a:r>
              <a:rPr b="1" lang="ru-RU" sz="2000" spc="-1" strike="noStrike">
                <a:solidFill>
                  <a:srgbClr val="21306a"/>
                </a:solidFill>
                <a:latin typeface="Arial"/>
              </a:rPr>
              <a:t>  Душанбе</a:t>
            </a:r>
            <a:r>
              <a:rPr b="0" lang="ru-RU" sz="1800" spc="-1" strike="noStrike">
                <a:solidFill>
                  <a:srgbClr val="21306a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1116000" y="281160"/>
            <a:ext cx="6985080" cy="761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26920" y="907560"/>
            <a:ext cx="734544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996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22"/>
                </a:solidFill>
                <a:latin typeface="Arial"/>
                <a:ea typeface="Arial"/>
              </a:rPr>
              <a:t>Таджикиста́н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  <a:ea typeface="Arial"/>
              </a:rPr>
              <a:t> — индустриально-аграрная страна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3996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Arial"/>
                <a:ea typeface="Arial"/>
              </a:rPr>
              <a:t>За годы независимости сильно изменилась структура занятости, произошла индустриализация экономики. Начиная с 2000 годов наблюдается устойчивый экономический рост на уровне 5-7 %. Для развития экономики со стороны правительства были открыты 4 СЭЗ. Для субъектов СЭЗ дан ряд экономических привилегий. Они освобождены от налогов и таможенных сборов. Сняты все административные барьеры для развития СЭЗ. Достижения статуса страны, как индустриально-аграрной, обеспечит реализация Национальной стратегии развития Республики Таджикистан до 2030 года. 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017720" y="5084640"/>
            <a:ext cx="2319120" cy="1424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2266920" cy="1424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4"/>
          <a:stretch/>
        </p:blipFill>
        <p:spPr>
          <a:xfrm>
            <a:off x="6048360" y="5084640"/>
            <a:ext cx="21240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4000" y="1988640"/>
            <a:ext cx="784836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Обеспечение устойчивого развития страны предполагает выбор научно обоснованных базовых принципов будущего развития национальной экономики и общества. В основу системного подхода разработки НСР-2030 положены три базовых принципа будущего развития: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превентивность,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или упреждение (снижение) уязвимости будущего развития;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индустриальность,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или повышение эффективности использования национальных ресурсов;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инновационность,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или развитие на основе нововведений во всех сферах социально-экономической жизни страны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755640" y="281160"/>
            <a:ext cx="717552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828720" y="208080"/>
            <a:ext cx="7559640" cy="1176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11280" y="1412640"/>
            <a:ext cx="7921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ью государственного регул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является обеспече­ние правовой базы функционирования рыночной системы, ус­тановление легитимных и эффективных взаимоотношений между участниками рынка — поставщиками, производителями (исполнителями услуг) и потребителями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ическое регулирование уста­навливая строгие регуляторы формирования бизнеса в части безопасности, в то же время предоставляет максимальную свободу для бизнеса, развивая конкуренцию по видам деятель­ности, не представляющим потенциальную опасность для по­требителей. Техническое регулирование выполняет регули­рующую функцию между спросом и предложением, защищая при этом интересы как государства, так и бизнеса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пех государственного регулирования достигается при условии ба­зирования его на объективных экономических законах обще­ственного развития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9640" y="1699920"/>
            <a:ext cx="8136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1. Закон РТ «О техническом нормировании» 19.05.2009г.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 № </a:t>
            </a: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522 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2. Закон РТ «О стандартизации» 29.12.2010г. № 668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3. Закон РТ «Об оценке соответствия» 02.08.2011г.  № 759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4. Закон РТ «О безопасности пищевых продуктов» 01.08.2012г. № 943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5. Закон РТ «Об обеспечении единства измерений» 15.05.1997г. № 435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828720" y="285840"/>
            <a:ext cx="7559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10920" y="1066680"/>
            <a:ext cx="78483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Республика Таджикистан 2 - марта 2013 года стала полноправным 159-ым членом Всемирной Торговой Организации.  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ВТО прежде всего это создание открытой свободной и честной международной торговли, где все страны- члены имеют равные права и обязанности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Главная задача ВТО - это внедрение во всем мире единой системы правил торговли и торгово-экономических отношений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Принципы – равноправие, взаимность и прозрачность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817560" y="268200"/>
            <a:ext cx="717408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11280" y="1425240"/>
            <a:ext cx="7929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п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901800" y="285840"/>
            <a:ext cx="7175520" cy="10364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"/>
          <p:cNvSpPr/>
          <p:nvPr/>
        </p:nvSpPr>
        <p:spPr>
          <a:xfrm>
            <a:off x="611280" y="1424160"/>
            <a:ext cx="7842240" cy="7095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РАВИТЕЛЬСТВО РЕСПУБЛИКИ ТАДЖИКИСТ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3"/>
          <p:cNvSpPr/>
          <p:nvPr/>
        </p:nvSpPr>
        <p:spPr>
          <a:xfrm>
            <a:off x="4119480" y="2133720"/>
            <a:ext cx="622440" cy="57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611280" y="2708280"/>
            <a:ext cx="4608360" cy="8143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ГЕНТСТВО ПО СТАНДАРТИЗАЦИИ, МЕТРОЛОГИИ, СЕРТИФИКАЦИИ И ТОРГОВОЙ ИНСП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6235560" y="2822400"/>
            <a:ext cx="2217960" cy="7002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П «НО АККРЕДИТ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Двойная стрелка влево/вправо 7"/>
          <p:cNvSpPr/>
          <p:nvPr/>
        </p:nvSpPr>
        <p:spPr>
          <a:xfrm>
            <a:off x="5219640" y="2938320"/>
            <a:ext cx="1015920" cy="419400"/>
          </a:xfrm>
          <a:prstGeom prst="leftRightArrow">
            <a:avLst>
              <a:gd name="adj1" fmla="val 50000"/>
              <a:gd name="adj2" fmla="val 4996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Стрелка вниз 9" descr=""/>
          <p:cNvPicPr/>
          <p:nvPr/>
        </p:nvPicPr>
        <p:blipFill>
          <a:blip r:embed="rId2"/>
          <a:stretch/>
        </p:blipFill>
        <p:spPr>
          <a:xfrm>
            <a:off x="2719440" y="3492360"/>
            <a:ext cx="395280" cy="1513080"/>
          </a:xfrm>
          <a:prstGeom prst="rect">
            <a:avLst/>
          </a:prstGeom>
          <a:ln w="0">
            <a:noFill/>
          </a:ln>
        </p:spPr>
      </p:pic>
      <p:sp>
        <p:nvSpPr>
          <p:cNvPr id="251" name="Блок-схема: процесс 8"/>
          <p:cNvSpPr/>
          <p:nvPr/>
        </p:nvSpPr>
        <p:spPr>
          <a:xfrm rot="16200000">
            <a:off x="-57960" y="4918680"/>
            <a:ext cx="2213280" cy="855720"/>
          </a:xfrm>
          <a:prstGeom prst="flowChartProcess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УПРАВЛЕНИЕ ТЕХНИЧЕСКОГО НОРМИРОАНИЯ И СТАНДАР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10"/>
          <p:cNvSpPr/>
          <p:nvPr/>
        </p:nvSpPr>
        <p:spPr>
          <a:xfrm>
            <a:off x="826920" y="3522600"/>
            <a:ext cx="484200" cy="706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низ 11"/>
          <p:cNvSpPr/>
          <p:nvPr/>
        </p:nvSpPr>
        <p:spPr>
          <a:xfrm>
            <a:off x="4232160" y="3500280"/>
            <a:ext cx="484200" cy="706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12" descr=""/>
          <p:cNvPicPr/>
          <p:nvPr/>
        </p:nvPicPr>
        <p:blipFill>
          <a:blip r:embed="rId3"/>
          <a:stretch/>
        </p:blipFill>
        <p:spPr>
          <a:xfrm>
            <a:off x="4011480" y="4114800"/>
            <a:ext cx="932040" cy="24019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3" descr=""/>
          <p:cNvPicPr/>
          <p:nvPr/>
        </p:nvPicPr>
        <p:blipFill>
          <a:blip r:embed="rId4"/>
          <a:stretch/>
        </p:blipFill>
        <p:spPr>
          <a:xfrm>
            <a:off x="2511360" y="4194000"/>
            <a:ext cx="749520" cy="460224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29" descr=""/>
          <p:cNvPicPr/>
          <p:nvPr/>
        </p:nvPicPr>
        <p:blipFill>
          <a:blip r:embed="rId5"/>
          <a:stretch/>
        </p:blipFill>
        <p:spPr>
          <a:xfrm>
            <a:off x="6272280" y="4200480"/>
            <a:ext cx="933480" cy="226692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0" descr=""/>
          <p:cNvPicPr/>
          <p:nvPr/>
        </p:nvPicPr>
        <p:blipFill>
          <a:blip r:embed="rId6"/>
          <a:stretch/>
        </p:blipFill>
        <p:spPr>
          <a:xfrm>
            <a:off x="7523280" y="4200480"/>
            <a:ext cx="944280" cy="2266920"/>
          </a:xfrm>
          <a:prstGeom prst="rect">
            <a:avLst/>
          </a:prstGeom>
          <a:ln w="0">
            <a:noFill/>
          </a:ln>
        </p:spPr>
      </p:pic>
      <p:sp>
        <p:nvSpPr>
          <p:cNvPr id="258" name="Стрелка вниз 12287"/>
          <p:cNvSpPr/>
          <p:nvPr/>
        </p:nvSpPr>
        <p:spPr>
          <a:xfrm>
            <a:off x="6588000" y="3500280"/>
            <a:ext cx="243000" cy="6876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низ 12288"/>
          <p:cNvSpPr/>
          <p:nvPr/>
        </p:nvSpPr>
        <p:spPr>
          <a:xfrm>
            <a:off x="7869240" y="3500280"/>
            <a:ext cx="231840" cy="7081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углом вверх 5"/>
          <p:cNvSpPr/>
          <p:nvPr/>
        </p:nvSpPr>
        <p:spPr>
          <a:xfrm flipV="1">
            <a:off x="4932360" y="4863240"/>
            <a:ext cx="647640" cy="365400"/>
          </a:xfrm>
          <a:custGeom>
            <a:avLst/>
            <a:gdLst/>
            <a:ahLst/>
            <a:rect l="l" t="t" r="r" b="b"/>
            <a:pathLst>
              <a:path w="647700" h="365125">
                <a:moveTo>
                  <a:pt x="0" y="273844"/>
                </a:moveTo>
                <a:lnTo>
                  <a:pt x="510778" y="273844"/>
                </a:lnTo>
                <a:lnTo>
                  <a:pt x="510778" y="91281"/>
                </a:lnTo>
                <a:lnTo>
                  <a:pt x="465138" y="91281"/>
                </a:lnTo>
                <a:lnTo>
                  <a:pt x="556419" y="0"/>
                </a:lnTo>
                <a:lnTo>
                  <a:pt x="647700" y="91281"/>
                </a:lnTo>
                <a:lnTo>
                  <a:pt x="602059" y="91281"/>
                </a:lnTo>
                <a:lnTo>
                  <a:pt x="602059" y="365125"/>
                </a:lnTo>
                <a:lnTo>
                  <a:pt x="0" y="365125"/>
                </a:lnTo>
                <a:lnTo>
                  <a:pt x="0" y="273844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Прямоугольник 14" descr=""/>
          <p:cNvPicPr/>
          <p:nvPr/>
        </p:nvPicPr>
        <p:blipFill>
          <a:blip r:embed="rId7"/>
          <a:stretch/>
        </p:blipFill>
        <p:spPr>
          <a:xfrm>
            <a:off x="4919760" y="5205240"/>
            <a:ext cx="1103040" cy="255456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17" descr=""/>
          <p:cNvPicPr/>
          <p:nvPr/>
        </p:nvPicPr>
        <p:blipFill>
          <a:blip r:embed="rId8"/>
          <a:stretch/>
        </p:blipFill>
        <p:spPr>
          <a:xfrm>
            <a:off x="1511280" y="4840200"/>
            <a:ext cx="914400" cy="3286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9" descr=""/>
          <p:cNvPicPr/>
          <p:nvPr/>
        </p:nvPicPr>
        <p:blipFill>
          <a:blip r:embed="rId9"/>
          <a:stretch/>
        </p:blipFill>
        <p:spPr>
          <a:xfrm>
            <a:off x="1476360" y="4478400"/>
            <a:ext cx="574560" cy="390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5" descr=""/>
          <p:cNvPicPr/>
          <p:nvPr/>
        </p:nvPicPr>
        <p:blipFill>
          <a:blip r:embed="rId10"/>
          <a:stretch/>
        </p:blipFill>
        <p:spPr>
          <a:xfrm>
            <a:off x="3078000" y="4218120"/>
            <a:ext cx="6462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3:57:17Z</dcterms:created>
  <dc:creator>Adiba</dc:creator>
  <dc:description/>
  <dc:language>en-US</dc:language>
  <cp:lastModifiedBy>Windows User</cp:lastModifiedBy>
  <dcterms:modified xsi:type="dcterms:W3CDTF">2017-05-30T09:40:41Z</dcterms:modified>
  <cp:revision>157</cp:revision>
  <dc:subject/>
  <dc:title>Слайд 1</dc:title>
</cp:coreProperties>
</file>